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49E-46C1-4282-A256-A8A55811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F97-BFE9-43DD-BF17-FF4E82D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0BD-B33E-426E-A430-85D8CDF6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B72-8410-4231-B6FC-FBE94770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BE7-75FC-4AF6-BBEB-60A57C3D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FF3-56CE-49F1-86C1-ED9B8C3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7A0-531C-490E-B682-A48DF5D2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345-637D-409E-AAFA-569742FB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481-8864-4DAD-8AC4-B4497E5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BBA-7995-411A-BA6C-198E5FA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C61-A34A-4EF4-8663-D4F187BA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78A-8158-4FA1-BCB7-ADD2252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A97-7553-46C1-A87C-3DEFCF20C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5335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Урок  математики  в  1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0102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adley Hand ITC"/>
              </a:rPr>
              <a:t>"Сложение  и  вычит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adley Hand ITC"/>
              </a:rPr>
              <a:t>в  пределах  10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adley Hand ITC"/>
              <a:ea typeface="Bradley Hand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29200" y="5334120"/>
            <a:ext cx="327672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абота  учи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БОУ "Обманковская ООШ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Комаровой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9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24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40080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08660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724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4100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08660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24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4100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48520" y="1143000"/>
            <a:ext cx="609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24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100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48520" y="1143000"/>
            <a:ext cx="609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1028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71800" y="1143000"/>
            <a:ext cx="762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6252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724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100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48520" y="1143000"/>
            <a:ext cx="609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010280" y="1143000"/>
            <a:ext cx="685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153280" y="533520"/>
            <a:ext cx="3621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Monotype Corsiva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690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9480" y="228600"/>
            <a:ext cx="2028960" cy="25909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>
            <a:lum bright="-6000"/>
          </a:blip>
          <a:srcRect l="0" t="0" r="10410" b="0"/>
          <a:stretch/>
        </p:blipFill>
        <p:spPr>
          <a:xfrm>
            <a:off x="533520" y="3276720"/>
            <a:ext cx="2055600" cy="26668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3124080" y="990720"/>
            <a:ext cx="36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брал  3  гриб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71800" y="3352680"/>
            <a:ext cx="4257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брал  на  2  гри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ольш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429000" y="55627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лько.......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371600" y="16002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  +  2  =  5 ( г.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твет: 5  грибо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533520"/>
            <a:ext cx="556236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  по  коробу  скребён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  сусеку  метён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а  сметане  мешён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а  окошке  стужён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3533760"/>
            <a:ext cx="29718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9480" y="304920"/>
            <a:ext cx="2028960" cy="25905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>
            <a:lum bright="-6000"/>
          </a:blip>
          <a:srcRect l="0" t="0" r="10410" b="0"/>
          <a:stretch/>
        </p:blipFill>
        <p:spPr>
          <a:xfrm>
            <a:off x="533520" y="3429000"/>
            <a:ext cx="2055600" cy="26668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209" name=""/>
          <p:cNvSpPr txBox="1"/>
          <p:nvPr/>
        </p:nvSpPr>
        <p:spPr>
          <a:xfrm>
            <a:off x="3124080" y="9907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брал  3  гриб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71800" y="33526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брал  5  гриб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29000" y="55627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лько.......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600200" y="1828800"/>
            <a:ext cx="6019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3  +  5  =  8 (г.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Ответ: 8 грибо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914400" y="12193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 О Л О Д Ц Ы !</a:t>
            </a:r>
            <a:endParaRPr b="1" lang="en-US" sz="1800" spc="1" strike="noStrike">
              <a:ln w="44280">
                <a:solidFill>
                  <a:srgbClr val="8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28600" y="1143000"/>
            <a:ext cx="4267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шите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з  учебн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.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303800" y="152280"/>
            <a:ext cx="4840200" cy="64771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00200" y="45720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верь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2120" y="1905120"/>
            <a:ext cx="23619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9 - 5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10 -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9 -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10 - 8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05520" y="1905120"/>
            <a:ext cx="19810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5 +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 + 8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+ 5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+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52680" y="45720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391520" y="1905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391520" y="36576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391520" y="45720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238880" y="27432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76720" y="3733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76720" y="28195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00400" y="1905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8333" b="3479"/>
          <a:stretch/>
        </p:blipFill>
        <p:spPr>
          <a:xfrm>
            <a:off x="5105520" y="228600"/>
            <a:ext cx="3436920" cy="4649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4190760" cy="300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676520" y="4572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388620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38080" y="525780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Какая  лента  короч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и  на  сколько сантиметров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4753080" cy="34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200400" cy="266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1295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8954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 - 6 = 2 (см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680" y="4038480"/>
            <a:ext cx="5496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Ответ: на  2  см  короч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95680" y="1371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600200" y="457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омашнее 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. 37, №№ 4,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457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цените 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362320"/>
            <a:ext cx="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5029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2438280"/>
            <a:ext cx="0" cy="266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5105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5486400"/>
            <a:ext cx="29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чув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486400" y="5410080"/>
            <a:ext cx="160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сп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3808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споминай - 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1905120"/>
          <a:ext cx="182880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81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590920" y="1905120"/>
          <a:ext cx="182880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81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876920" y="1905120"/>
          <a:ext cx="182880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81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162920" y="1905120"/>
          <a:ext cx="182880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81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2895480" y="28954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5880" y="28954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95480" y="441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19920" y="44956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00200" y="28954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36576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458200" y="44956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36576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67480" y="53341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733920" y="35812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00200" y="44956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81480" y="52578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95480" y="52578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52578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1880" y="28195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467480" y="37339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362320" y="38088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чит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3716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 +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304812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 +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257800" y="3124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0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4479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 +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38680" y="51814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41148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 +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105520" y="41148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0 - 9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5181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 -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19520" y="59436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 - 5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2096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9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971800" y="137160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534520" y="14479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077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772400" y="4114800"/>
            <a:ext cx="228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500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24080" y="5181480"/>
            <a:ext cx="381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3868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534520" y="5181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9880" y="41148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609480"/>
            <a:ext cx="6477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пишите   все  чис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тетрадь  по  порядк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2670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1828800"/>
            <a:ext cx="2811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37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954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9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95280" y="1828800"/>
            <a:ext cx="2811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954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9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1337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954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9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954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828800"/>
            <a:ext cx="2570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1008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5880" y="1828800"/>
            <a:ext cx="257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934320" y="1828800"/>
            <a:ext cx="333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72400" y="1828800"/>
            <a:ext cx="5904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143000"/>
            <a:ext cx="638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143000"/>
            <a:ext cx="609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1143000"/>
            <a:ext cx="533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арова</cp:lastModifiedBy>
  <dcterms:modified xsi:type="dcterms:W3CDTF">2013-09-03T16:23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